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331-5C44-42F1-B596-50C67482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61D-E28F-4725-AF65-F47AE25F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225-F21B-424C-924E-09DEA473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AC9-AE79-419E-B202-74C66BE7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E0B-9DC9-4464-93E6-74C8BC15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5A9-DF1A-476D-B6A4-A47CDED0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B01-9465-4609-B4DA-EB83234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B5D-A40C-478C-8BD3-0C1DBB6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885-7D0E-40E4-BD31-02049A8F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6DD-2C3F-4899-A308-973FFC9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EDD-2CFA-4888-898A-48E5D09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F52-D521-4238-B086-EF10EC10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EE32-FD37-47B4-B671-E04FE729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www.chessbase.com/news/2007/yekaterinburg02.jpg&amp;imgrefurl=http://www.chessbase.com/newsdetail.asp%3Fnewsid%3D3875&amp;usg=__tMxX0FLrE1SvCcVGQGs7HmdjrfM=&amp;h=315&amp;w=450&amp;sz=47&amp;hl=en&amp;start=12&amp;um=1&amp;tbnid=oi8tCofvBsQPDM:&amp;tbnh=89&amp;tbnw=127&amp;prev=/images%3Fq%3Dyekaterinburg%26um%3D1%26hl%3Den%26safe%3Dactive%26rls%3DIBMA,IBMA:2006-28,IBMA: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-Siberian Railroad Expe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hlyn, Sabrina, Kate, Danie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51468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95680" y="1168560"/>
            <a:ext cx="4017960" cy="268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4800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ta M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886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10000" cy="5205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90920" y="6095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ursky Boulevard in Khabarov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717720" cy="4952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5257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4191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Kholodilnik in Vladivos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92468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943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Expedition Route from Moscow to Vladivos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6248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Cabin in the 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512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429000" cy="464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438280"/>
            <a:ext cx="3809880" cy="2670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59436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katerinburg Cathed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181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katerinburg T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sk Building on Lyubinsky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343400" cy="326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4724280" cy="352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3657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osibirsk Drama Theater at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209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osibirsk Theater 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353040" cy="183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19480" cy="2427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72200" y="2666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slag 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029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snoyar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6019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 Dam in Krasnoyar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3733920" cy="36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4190760" cy="403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209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Bai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495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495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kut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8:33:45Z</dcterms:created>
  <dc:creator>daniellelioce</dc:creator>
  <dc:description/>
  <dc:language>en-US</dc:language>
  <cp:lastModifiedBy>daniellelioce</cp:lastModifiedBy>
  <dcterms:modified xsi:type="dcterms:W3CDTF">2008-11-25T19:03:45Z</dcterms:modified>
  <cp:revision>11</cp:revision>
  <dc:subject/>
  <dc:title>Trans-Siberian Railroad Expedition</dc:title>
</cp:coreProperties>
</file>